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10D3-3440-4092-BBC9-3BC1A1EB4277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4B9D-B242-42E0-A7B4-B13523053C94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A0C-9DD8-4709-80D8-0D5091D0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B36-D385-4CE4-943B-37CD400E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11D-8C5E-4B2A-A9B6-1E681D47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448-6322-4751-AC96-5743AC2E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4423-536B-4226-A613-3D59EAEC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5EB-7923-4FE0-B49D-A3FE89E9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6A4-D32D-4D82-94A7-13DEDB10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1F4-20BE-419B-8E0B-3205C9E6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56A-3D9E-43CF-AB71-DC19A995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65F-DA99-4A5D-8E68-48725ABB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E44-4E48-45F4-BD9A-6286DFFD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6FE-5123-42CD-B0FA-1D3BCA4E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A58C-7C5F-4390-B7A3-469F8EF4A5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7"/>
          <p:cNvGraphicFramePr/>
          <p:nvPr/>
        </p:nvGraphicFramePr>
        <p:xfrm>
          <a:off x="4500720" y="2421000"/>
          <a:ext cx="1873080" cy="40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421000"/>
                    <a:ext cx="187308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8"/>
          <p:cNvGraphicFramePr/>
          <p:nvPr/>
        </p:nvGraphicFramePr>
        <p:xfrm>
          <a:off x="2124000" y="2421000"/>
          <a:ext cx="165600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2421000"/>
                    <a:ext cx="16560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9"/>
          <p:cNvGraphicFramePr/>
          <p:nvPr/>
        </p:nvGraphicFramePr>
        <p:xfrm>
          <a:off x="2340000" y="4724280"/>
          <a:ext cx="1244520" cy="3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4724280"/>
                    <a:ext cx="12445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0"/>
          <p:cNvGraphicFramePr/>
          <p:nvPr/>
        </p:nvGraphicFramePr>
        <p:xfrm>
          <a:off x="6948360" y="2421000"/>
          <a:ext cx="2195640" cy="103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48360" y="2421000"/>
                    <a:ext cx="21956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12"/>
          <p:cNvGraphicFramePr/>
          <p:nvPr/>
        </p:nvGraphicFramePr>
        <p:xfrm>
          <a:off x="2050920" y="1197000"/>
          <a:ext cx="1729080" cy="3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1197000"/>
                    <a:ext cx="17290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3"/>
          <p:cNvGraphicFramePr/>
          <p:nvPr/>
        </p:nvGraphicFramePr>
        <p:xfrm>
          <a:off x="5148360" y="5229360"/>
          <a:ext cx="3744720" cy="110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48360" y="5229360"/>
                    <a:ext cx="374472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14"/>
          <p:cNvGraphicFramePr/>
          <p:nvPr/>
        </p:nvGraphicFramePr>
        <p:xfrm>
          <a:off x="179280" y="2421000"/>
          <a:ext cx="1440000" cy="398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9280" y="2421000"/>
                    <a:ext cx="14400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Line 15"/>
          <p:cNvSpPr/>
          <p:nvPr/>
        </p:nvSpPr>
        <p:spPr>
          <a:xfrm>
            <a:off x="2843280" y="1484280"/>
            <a:ext cx="0" cy="506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3924000" y="2565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6443640" y="256536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"/>
          <p:cNvSpPr/>
          <p:nvPr/>
        </p:nvSpPr>
        <p:spPr>
          <a:xfrm flipV="1">
            <a:off x="1692360" y="2637000"/>
            <a:ext cx="35856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9"/>
          <p:cNvSpPr/>
          <p:nvPr/>
        </p:nvSpPr>
        <p:spPr>
          <a:xfrm flipH="1" flipV="1">
            <a:off x="5219640" y="2924280"/>
            <a:ext cx="1224000" cy="2017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 flipH="1">
            <a:off x="6803640" y="3429000"/>
            <a:ext cx="792360" cy="1440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2"/>
          <p:cNvSpPr/>
          <p:nvPr/>
        </p:nvSpPr>
        <p:spPr>
          <a:xfrm>
            <a:off x="2987640" y="2925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2484360" y="1989000"/>
            <a:ext cx="121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k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285840" y="2000160"/>
            <a:ext cx="106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k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2500200" y="5214960"/>
            <a:ext cx="106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ky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4857840" y="2000160"/>
            <a:ext cx="11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6156360" y="6308640"/>
            <a:ext cx="11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7164360" y="1628640"/>
            <a:ext cx="1865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Carboxyl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2124000" y="836640"/>
            <a:ext cx="237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kyl ha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0"/>
          <p:cNvSpPr/>
          <p:nvPr/>
        </p:nvSpPr>
        <p:spPr>
          <a:xfrm>
            <a:off x="1403280" y="2852640"/>
            <a:ext cx="936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 /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3492360" y="2781360"/>
            <a:ext cx="1368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H</a:t>
            </a:r>
            <a:r>
              <a:rPr b="1" lang="en-NZ" sz="2400" spc="-1" strike="noStrike" baseline="30000">
                <a:solidFill>
                  <a:srgbClr val="9900ff"/>
                </a:solidFill>
                <a:latin typeface="Arial"/>
              </a:rPr>
              <a:t>+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 / H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2"/>
          <p:cNvSpPr/>
          <p:nvPr/>
        </p:nvSpPr>
        <p:spPr>
          <a:xfrm>
            <a:off x="6012000" y="2781360"/>
            <a:ext cx="1800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Cr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O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7</a:t>
            </a:r>
            <a:r>
              <a:rPr b="1" lang="en-NZ" sz="2400" spc="-1" strike="noStrike" baseline="30000">
                <a:solidFill>
                  <a:srgbClr val="9900ff"/>
                </a:solidFill>
                <a:latin typeface="Arial"/>
              </a:rPr>
              <a:t>2-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/H</a:t>
            </a:r>
            <a:r>
              <a:rPr b="1" lang="en-NZ" sz="2400" spc="-1" strike="noStrike" baseline="30000">
                <a:solidFill>
                  <a:srgbClr val="9900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3"/>
          <p:cNvSpPr/>
          <p:nvPr/>
        </p:nvSpPr>
        <p:spPr>
          <a:xfrm rot="3489000">
            <a:off x="4303080" y="3854160"/>
            <a:ext cx="208764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CH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CO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H  / Conc H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SO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4"/>
          <p:cNvSpPr/>
          <p:nvPr/>
        </p:nvSpPr>
        <p:spPr>
          <a:xfrm rot="17922000">
            <a:off x="6874560" y="3884400"/>
            <a:ext cx="14382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H</a:t>
            </a:r>
            <a:r>
              <a:rPr b="1" lang="en-NZ" sz="2400" spc="-1" strike="noStrike" baseline="30000">
                <a:solidFill>
                  <a:srgbClr val="9900ff"/>
                </a:solidFill>
                <a:latin typeface="Arial"/>
              </a:rPr>
              <a:t>+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 / H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5"/>
          <p:cNvSpPr/>
          <p:nvPr/>
        </p:nvSpPr>
        <p:spPr>
          <a:xfrm>
            <a:off x="2195640" y="189000"/>
            <a:ext cx="547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99"/>
                </a:solidFill>
                <a:latin typeface="Arial"/>
              </a:rPr>
              <a:t>Year 12 Organic 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6"/>
          <p:cNvSpPr/>
          <p:nvPr/>
        </p:nvSpPr>
        <p:spPr>
          <a:xfrm>
            <a:off x="2500200" y="3786120"/>
            <a:ext cx="360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7"/>
          <p:cNvSpPr/>
          <p:nvPr/>
        </p:nvSpPr>
        <p:spPr>
          <a:xfrm>
            <a:off x="2916360" y="1628640"/>
            <a:ext cx="936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0:05:05Z</dcterms:created>
  <dc:creator>Ministry of Education</dc:creator>
  <dc:description/>
  <dc:language>en-US</dc:language>
  <cp:lastModifiedBy>Ministry of Education</cp:lastModifiedBy>
  <dcterms:modified xsi:type="dcterms:W3CDTF">2009-11-02T02:19:14Z</dcterms:modified>
  <cp:revision>9</cp:revision>
  <dc:subject/>
  <dc:title>Slide 1</dc:title>
</cp:coreProperties>
</file>